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545-A059-4C68-9A7F-E6458E20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94C-1575-4E72-8163-6A8FFB2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32F-E474-4257-9FEB-E33BF0BF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175-34DC-44CB-9065-70C2CC9F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8DC3-3838-4312-A81F-F6151944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3EBF-8532-4B01-A926-D2EE6DC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E5BD-3C69-4846-BCC0-5691E480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E0B1-03C9-4304-A4E8-AFA73024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A0E-5FD4-4687-9F0A-43ECCC4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0CF2-B7A8-41ED-9BE5-A0B82C3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032-F81A-406B-AEDF-8D7F25D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F8A-9301-44A8-B31B-CD7653FB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F175-E284-4256-B0EE-6F2802D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3006-CADF-48B1-AE2E-16D7775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0D0C-4B1A-4218-8736-006890F7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F912-102E-4C36-A4DB-CAFD4482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088-A6AC-4223-80BD-AD803FBC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BF4-3DB3-46D8-B6CA-9CA0D01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5F6-F38C-4765-9590-6E943C78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DD4-51F6-4956-B831-FF8982A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105-737B-4B47-A5F6-A9C939D3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E5D-BA0F-43A1-B4DC-5AAB9F16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89C-0EC0-48B3-989E-599517E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D78-0330-4F29-990D-E2CC1E5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8BFE-330F-4FB9-ABC8-24A0C4B183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D4B-58BF-4F08-924C-03F8D0BDC6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VIRU</a:t>
            </a: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ŞI ŞI PROGRAME ANTIVIRU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UM E CORECT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rasaţi săgeţi de corespondenţă între tipul de virus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i caracteristica lui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boot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scunde prezenţ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Macro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sectorul de boo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polimor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aplicaţii care se execut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tealth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modifică instrucţiun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fişier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docum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Enumeră câteva moduri de infectare a unui calculator cu un viru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Copie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şiere sau recepţionare de e-mail-uri virusate în reţea şi utilizarea dispozitivelor de memorie externă virusate în calculat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e este un antivir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Antivirusul este un program care protejează calculatorul de viruşi prin depistarea şi ştergerea l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book" descr=""/>
          <p:cNvPicPr/>
          <p:nvPr/>
        </p:nvPicPr>
        <p:blipFill>
          <a:blip r:embed="rId1"/>
          <a:stretch/>
        </p:blipFill>
        <p:spPr>
          <a:xfrm>
            <a:off x="7772400" y="6161040"/>
            <a:ext cx="914400" cy="696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590920" y="2286000"/>
            <a:ext cx="3200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2819520"/>
            <a:ext cx="33530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3200" y="3352680"/>
            <a:ext cx="3048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14600" y="2285640"/>
            <a:ext cx="320040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590920" y="3352680"/>
            <a:ext cx="32763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 ESTE 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IRUSUL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461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ţie: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ul informatic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prezintă o secvenţă de program cu scop distructiv, ascunsă într-un fiţier numit gazdă (aparent inofensiv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şii devin activi în momentul în care fişierul virusat este utilizat. El rămâne activ în memoria RAM şi infectează mai departe aplicaţiile accesate şi resursele calculatorulu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Computer-04-june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82880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tipul componentei virusa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viruşi hard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viruşi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fel, viruşii pot fi grupaţi în 6 categori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de boo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sectorul de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dică acea parte a hard-disk-ului care este accesată la pornirea calculatorul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de fişier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infectează aplicaţiile atunci 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â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 acestea sunt execu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004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Macro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fişiere create cu ajutorul software-ului de birou (ex.: docum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multipatriz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atât sectorul de boot, cât şi fişiere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polimorf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unt viruşi care îşi modifică instrucţiunile atunci când infectează un alt calcu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Stealth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0" i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furişează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îşi ascund prezenţa, făcând ca fişierele infectate să pară neinfec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blows_up" descr="Blows up - Click image to download."/>
          <p:cNvPicPr/>
          <p:nvPr/>
        </p:nvPicPr>
        <p:blipFill>
          <a:blip r:embed="rId1"/>
          <a:stretch/>
        </p:blipFill>
        <p:spPr>
          <a:xfrm>
            <a:off x="61722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riscul pe care îl reprezintă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ică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nu distrug şi nu modifică informaţiile, dar reduc viteza de lucru, blochează frecvent calculatorul şi pornesc melodii sau afişează mes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edie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de regulă şterg anumite programe (soft-uri) din calcu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are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şterg informaţii de pe hard-disk sau le modifică, blochează executarea program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Overworked" descr="overworked"/>
          <p:cNvPicPr/>
          <p:nvPr/>
        </p:nvPicPr>
        <p:blipFill>
          <a:blip r:embed="rId1"/>
          <a:stretch/>
        </p:blipFill>
        <p:spPr>
          <a:xfrm>
            <a:off x="6629400" y="5562720"/>
            <a:ext cx="175248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modul în care contamineaz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are se multiplică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înmulţesc şi contaminează multe fişi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are nu se multiplică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distrug lent informaţia şi sunt greu de depist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Wave" descr="wave"/>
          <p:cNvPicPr/>
          <p:nvPr/>
        </p:nvPicPr>
        <p:blipFill>
          <a:blip r:embed="rId1"/>
          <a:stretch/>
        </p:blipFill>
        <p:spPr>
          <a:xfrm>
            <a:off x="3886200" y="4648320"/>
            <a:ext cx="1428840" cy="87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MODURI DE INFECTAR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21932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într-o reţ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 transmitere de mesaje electronice (e-mail-uri) sau prin copierea sau accesarea informaţiilor partaj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ru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în cazul unui calculator perso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 utilizarea dispozitivelor de memorare externe care sunt infec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2_computers" descr="2 computers - Click image to download."/>
          <p:cNvPicPr/>
          <p:nvPr/>
        </p:nvPicPr>
        <p:blipFill>
          <a:blip r:embed="rId1"/>
          <a:stretch/>
        </p:blipFill>
        <p:spPr>
          <a:xfrm>
            <a:off x="3429000" y="2971800"/>
            <a:ext cx="2057400" cy="657360"/>
          </a:xfrm>
          <a:prstGeom prst="rect">
            <a:avLst/>
          </a:prstGeom>
          <a:ln w="0">
            <a:noFill/>
          </a:ln>
        </p:spPr>
      </p:pic>
      <p:pic>
        <p:nvPicPr>
          <p:cNvPr id="402" name="3d_cd" descr="3d cd - Click image to download."/>
          <p:cNvPicPr/>
          <p:nvPr/>
        </p:nvPicPr>
        <p:blipFill>
          <a:blip r:embed="rId2"/>
          <a:stretch/>
        </p:blipFill>
        <p:spPr>
          <a:xfrm>
            <a:off x="6095880" y="5695920"/>
            <a:ext cx="685800" cy="631800"/>
          </a:xfrm>
          <a:prstGeom prst="rect">
            <a:avLst/>
          </a:prstGeom>
          <a:ln w="0">
            <a:noFill/>
          </a:ln>
        </p:spPr>
      </p:pic>
      <p:pic>
        <p:nvPicPr>
          <p:cNvPr id="403" name="Buy_floppy" descr="Buy floppy - Click image to download."/>
          <p:cNvPicPr/>
          <p:nvPr/>
        </p:nvPicPr>
        <p:blipFill>
          <a:blip r:embed="rId3"/>
          <a:stretch/>
        </p:blipFill>
        <p:spPr>
          <a:xfrm>
            <a:off x="3200400" y="5715000"/>
            <a:ext cx="59544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UM PROTEJĂM CALCULATORU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44792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ru a proteja calculator de viruşi au fost create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ele antivirus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stea au rolul de a depista şi a şterge viruşii din calculator. Este recomandat ca un antivirus să fie rulat de fiecare dată când se utilizează un dispozitiv de memorare extern sau când descărcăm informaţii în reţea (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Printre cele mai cunoscute programe antivirus sunt: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on Antivirus, BitDefender, RAV Antivirus, Kaspersky, NOD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analyzing_computer_tv_head_md_wht%5B1%5D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01628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E RÂNDUL VOSTRU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rasaţi săgeţi de corespondenţă între tipul de virus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i caracteristica lui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boot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scunde prezenţ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Macro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sectorul de boo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polimor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aplicaţii care se execut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tealth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modifică instrucţiun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fişier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docum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Enumeră câteva moduri de infectare a unui calculator cu un viru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e este un antivir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book" descr=""/>
          <p:cNvPicPr/>
          <p:nvPr/>
        </p:nvPicPr>
        <p:blipFill>
          <a:blip r:embed="rId1"/>
          <a:stretch/>
        </p:blipFill>
        <p:spPr>
          <a:xfrm>
            <a:off x="7772400" y="6161040"/>
            <a:ext cx="914400" cy="69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7:18:42Z</dcterms:created>
  <dc:creator>andrei313</dc:creator>
  <dc:description/>
  <dc:language>en-US</dc:language>
  <cp:lastModifiedBy>oana&amp;florin</cp:lastModifiedBy>
  <dcterms:modified xsi:type="dcterms:W3CDTF">2008-10-22T19:27:49Z</dcterms:modified>
  <cp:revision>44</cp:revision>
  <dc:subject/>
  <dc:title>Prezentarea calculatorului</dc:title>
</cp:coreProperties>
</file>